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8328-3193-4258-A358-E163A6B4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8A81-5F5F-4AE9-A640-793144A3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015-4173-4F1E-AAA7-B685EF6C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85CB-03D0-44DE-8188-4B7C109C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743-5BED-489B-8999-52233189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78C-DDCE-40FE-84D5-CB4B0D84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377-6A86-46A1-A419-21622757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A51-AE86-4647-BE24-8F45D9D8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382-83D0-418C-83E5-4BBFFE95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7A1-E514-4937-9DCC-F4A93308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BBA-C743-4D3B-81C4-6A926B0E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009-B8ED-4B0B-81AB-35B94877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06D0-2EB6-4E0B-829D-BB6A00204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62160" y="515880"/>
            <a:ext cx="7846920" cy="618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333399"/>
                </a:solidFill>
                <a:latin typeface="Bookman Old Style"/>
              </a:rPr>
              <a:t>60</a:t>
            </a:r>
            <a:r>
              <a:rPr b="1" lang="bg-BG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аследник на царствот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още ли спиш?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Как можеш да дремеш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 тез времена?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Събуди се прилеж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да работиш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о волята на Изкупител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86040"/>
            <a:ext cx="9112320" cy="7103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аследник на царствот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готов ли си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корона слав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да носиш и ти?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Твърд стой против греховет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спомни си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как Господ стра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и в край побед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9880"/>
            <a:ext cx="9144000" cy="67982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иж как човеци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гинат без Бога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без вяра в Словот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а наший Спас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о ще се стреснат 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скоро в тревога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кога Го вид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ъв слава и власт!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8:57:12Z</dcterms:created>
  <dc:creator>TrifonTrifonow</dc:creator>
  <dc:description/>
  <dc:language>en-US</dc:language>
  <cp:lastModifiedBy>TrifonTrifonow</cp:lastModifiedBy>
  <dcterms:modified xsi:type="dcterms:W3CDTF">2005-11-22T07:24:07Z</dcterms:modified>
  <cp:revision>7</cp:revision>
  <dc:subject/>
  <dc:title>Slide 1</dc:title>
</cp:coreProperties>
</file>